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E67-54F5-4CDA-91DC-D75C4D54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455-3832-49FC-81B4-C50AA9CD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3FDB1-976D-4BDA-B1DA-1673E76E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33D8D-A06E-469A-9CDC-7DBCDF2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5602-8CB5-4AA8-B7E8-C6A3C668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93A10-A1CC-4E1C-A7E1-40737A0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16BF1-DD11-46B3-9335-8944934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D957-E13B-4CBF-9D3E-B7341109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A9234-F752-458A-BD84-13DD4A3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E5986-BB07-4DD0-87D5-3AB6F9C6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7C6C0-B1B8-4A1E-963C-F32602D8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3AE08-39ED-441E-A796-E22E1103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9A2-60AE-402C-BBD5-591109AC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F366C-5CED-4CE3-BD82-ED831E17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887EE-7FE9-494F-98AD-24389E4B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DFAA9-48F1-466F-A4E4-5DC86D6E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14253-0426-40F6-95D8-C711EE7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BEAB-1AB4-42A7-BA14-388C45EB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DCB7E-9674-4D8F-91DF-AAE95AC2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191B7-4D23-450C-B066-70A2687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59F6F-7A29-4E2C-9937-5C6C89A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92E81-EBC0-4099-890F-06DEA8F7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16A41-5973-4A83-95EE-5E9F09A0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A1D-4A87-47F7-AA6D-6AC0986B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25577-6F2E-4D00-BD24-1D337F2A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CC545-BB28-4274-A12E-FB4054F0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B9C1B-7B6D-492E-A19B-7D80BFE8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CF906-4687-4676-89D3-5F697B78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F205-B93B-49E1-A17C-10691171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206CC-A8B8-4C0A-A2D8-CE2FF7C4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4A0E5-E0B2-4E5B-A8C6-6B3B37A5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8EB0E-CE2A-441D-B5E8-6210D71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4077-3AFD-44FD-A357-521F6E37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AB7FC-2EF9-4EEE-A5AA-824793A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4726-94D5-47D4-9C1C-F17F3457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E476F-F319-4419-B628-26312029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7DEE7-72A7-49AF-A295-637496BF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4FBC9-78A6-4115-9DE4-5B58C770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A51DF-AE4B-4389-ACD9-CE2F31D3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969C7-4A03-426A-A7C3-5EDC73F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4C0FA-9FD1-4E51-BE9A-282052E9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C3B17-9E60-4232-A5FD-690A268F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951C-10D7-4C96-AD43-211AEC1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EB4B2-0A1A-49C0-B3E7-7D8BF65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73CB0-7122-4A43-8CB3-147DF37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5C41-8DA5-45B4-8654-1D89873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8E94-A7BF-4940-B3BD-0969743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74E7B-0CA7-4191-B358-042D7C0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E7B21-697F-4090-80FD-A8D6552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AF188-7075-41DB-A1AF-DB74AE05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31B3D-76D0-4ACC-837A-673BA15A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28B7C-D44E-4701-BFF0-CD6CB50E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F56A8-7734-4D8B-8DAA-A402946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BEA46-080C-429D-A79C-BD472579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DF864-B092-41C5-A988-118EE44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CC424-50D0-442B-A4D3-C7E1091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1B52-B973-4D20-A1DE-9E9F57A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33D57-DE3E-4E96-9849-C6D7FA0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BBDB3-671D-4639-8BD4-EB36AFF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7426D-36DB-4241-BF49-7E3AD35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B365A-E442-4C52-86FC-AB76BCA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9E640-C16D-47EB-B5F1-990A2E8F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4F3DF-18AB-4144-8C21-691583D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7440C-80D7-4652-A9C4-10963937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D880B-848D-4DC1-8A32-CA9F773B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274EC-B872-4634-896A-CBE5BCBF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9556D-7A4A-4DFE-9853-F98D7A44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A33F-C638-4FE9-8620-F34D9479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8D0CE-DEF8-4D45-B7FE-32E9AC3A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80AB4-E053-4007-BF17-8874B610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9D2AF-4873-4845-9F23-5A74129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AA75A-B19F-4641-8BE7-AD2E531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13EF4-2C21-4BC9-A2F2-43BA68C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2400E-C1C9-4D28-9AD7-A5C77AA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08E26-467E-49CC-913E-1C9872C9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0ED8D-2E7B-4C2F-BD75-8E4C9D71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865CC-3A4B-4F0D-B42F-9EEA87E6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4892F-310F-4A22-A997-D3B98F24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CEB-6BFC-4656-B0DD-C26764C4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74A47-A9D3-4A42-BEDE-93BC195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2EE02-8443-498E-9206-83318181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FB0F2-5EE5-4185-BFD9-A307BD1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8C210-A31F-4975-B61D-B8C045A2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091B6-4F7A-41B4-B8F4-2D81992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BA43C-C0F9-4D22-9941-21EDB49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00FFB-8876-4CDB-934A-1D5C231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791FF-2A21-442E-8A97-93DA8FA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45A38-AA68-4123-8814-6401FC4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4F046-B9BB-430A-BC22-DCD4E8E5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00C1-ADA6-4E1F-85A3-30764E1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082F3-2C92-4CF4-B664-953BD64E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7AC67-FC94-4170-9FA1-0900E725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D26F1-6C6B-4078-9518-BD9B65F0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D8E6C-293A-4EB9-BE33-138CB2D2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8E683-DEEB-433D-9585-6C6A1F10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5FB8C-9EA6-47A2-B3E6-225FF4A8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10374-BEA8-40A1-941F-27539B7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623DE-46BB-490A-BB7E-C00FBBE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31350-4B37-4F48-A8A8-ADF982B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25018-6753-4E0E-9729-EF480DA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AB2-5704-4722-9D53-8E6E8A0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E395D-6CE2-4887-AFB3-8A958D26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B266B-7B7D-4E42-BD5C-88A9D3D3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0DDC1-096F-42EC-A882-9F273236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F0F72-8589-4641-BB01-A885F972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BD097-BAAE-444D-BE98-C2AFE3F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F1CEB-1D72-438F-A8E1-5CE8028F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E5F5B-0566-43B7-B0B6-6ACADD1F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A71B1-4A2D-4B3D-A0B2-AE30F40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E28D4-53A1-445D-878F-A66CEB4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1529A-D0E9-40C9-9E0D-128BA45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5AD-A1BF-46C4-8353-5BBE9D11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96C1-8DCA-4BE3-A8B9-44EDE2CD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436DB-A0A7-4C32-A701-8DD5659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B6D33-F478-4B22-B976-4931079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1CB7D-F23E-4827-9975-4F5A494A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F90C2-10DC-473D-BC57-4184F51E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2E899-F66B-452C-BB5B-558849D6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A7878-480E-43E6-B82D-776CFB6F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84BE3-1D9A-4B2E-9211-763D2B0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F25D7-8887-4D74-A66B-1A38803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9F131-82CD-4487-9494-E555A10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0FF3C-E22D-4AC0-938E-77EE7F13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AEF2-7D01-4657-B14D-64BCD48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79B5B2-2F14-43A1-960A-0A10A453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27438-866F-4208-BD99-2493FD3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92D1C-49DE-44F2-ACDE-0A59A30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F3FFE-7044-4140-9568-69DA9205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E9E83-2BFE-44EF-AC4C-EAF89242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7F85C-0810-48B5-8B4D-99E6E444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49B40-00B2-46F3-9018-9992460E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0F9F4-0479-46E4-94A1-AB4A0B0C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0C3AC-904D-4067-ACD4-3D99F389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AB9E6-79B2-44CC-9F81-3F149FC3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D938-2FD3-4BE6-B32E-AF5A35C9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13ACD-4DE1-4F71-B5D3-ADF29C7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ED5AE-8065-485B-A52D-1E98A266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15272-295D-4B22-8E14-C520B434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CCF57-BC7C-4D2B-8410-B95EE63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2F0CE-04D5-4051-81EB-5BBD6BC0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4F558-3241-40D2-9FC8-99C7D69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5E3D4-93DD-4438-932A-6EC450E9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83D1F-782F-4169-9CBC-75AA4C0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7882E-18BE-4528-B38B-DE553B79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1CCB2-7CF6-448A-9A59-49A286A4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FADF-345C-4602-BD5B-DBF98388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B0287-4A7D-4CB8-AB3F-8BCF4333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28B15-65C1-44EF-8FB9-195F0EA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499E5-BE54-40D5-A9FE-B2CA2E9D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7217E-3C8A-4992-BB4B-5FF5999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84D4B-A73B-4237-B4B7-DA243F6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D8861-CBA7-483D-84C3-3081C7F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05567-526F-42E5-A3DB-CACF1DB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FEF6D-5751-497E-AA55-A752FB5B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482E4-52E0-493D-AB97-982B4F61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B46E9-5131-4650-8F77-7BE2AB99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13EB-960F-4DF3-8015-8CB647CB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EC4D1-4C26-4911-84DC-1CC091B5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82495-C4E6-497D-81DB-7B0B2A3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8655F-F19B-4462-9652-C1E57CE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32A5A-4BA3-4A5E-B125-99A7BA3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63E96-F591-41AB-8350-42BEC86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4B05B-76BA-4416-808F-EDFD3022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DA21C-DAFB-445A-98A4-9F06573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16241-1091-4861-B5F4-AE844A0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B14456-9A19-441E-A048-1C2C0BF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14197-8D4C-43E5-897B-5263D9A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4E6B-B826-4847-B89A-B1237505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F97ED-52C4-4B90-A3B1-7E8F707A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64D211-B213-40B4-A072-642C8ED5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8A5B7-0515-4385-A0A7-3432A57D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8FA8-741F-4B4D-B65E-71813C8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698B-1E2D-4559-9F11-71B77AC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B3F4-6523-4FD4-AA68-BEE91EA9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1BAB-4C6F-4C9E-A7EB-80DD0FC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D5D-E0A4-48C5-8BB5-E270F7C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627B-1FE5-489F-AF61-14F6E174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8E79-73E8-4706-B8DE-25E53EC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DD8A-E122-4F22-B351-CA71974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0EC7-7D30-426C-B41F-E6996B2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E08D-313C-4EF1-9551-D6202F97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5D61-22CE-475A-9A2F-B988471C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F172-1FF3-4BF8-8B68-1EA0163C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86EC-F2F9-44CA-BA37-83A82987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5FD1-EC3D-4B1F-B774-F1CB961B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2DAD-0BF4-4ED1-AE5E-664D94DA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17D-769B-4D49-9BD7-4C22EA0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71CE-5688-4C67-9313-B7B645A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052D-039E-4DC3-8AEF-DEBF84E5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108A-BDA7-4088-B3F4-C3E518F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018F-1E76-4F8B-9D8F-8BEA92F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6D51-BCE1-4F97-97ED-A0DDDBA8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5F75-C3C4-4DE4-8AA8-F9DE06E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838C-38B4-46F2-8B5B-948BA3C6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0EC9-C7CD-4271-B19B-6A82C9E4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9EC6-0CF8-4B78-B311-50A924FC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CC78-E0C6-4C5F-B8AC-2CC3581D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6B0-5DE8-4A7C-9560-BF033D56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36BB-9787-41D2-847F-C6AF34E3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8075-1384-431E-B22D-A715DD3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C42F-6FD1-4645-99E8-80BB1CF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7CAD4-BADB-48DC-B69E-15361606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0743-5FB6-42ED-890D-182F94E6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2799-846A-4401-BFBF-0BC00A8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77C65-2FC5-4DBF-A6FA-4DC45EB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E99C-1620-418A-BEB0-BEE4ACA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D460-9D94-4C46-BEC2-0F93BDF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4C9C-CA4B-4CB1-8E92-F82B2E8D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ED3-270E-43D3-BA06-30AF1D5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05B9-4EE8-4F2C-AB1B-4165FC3A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89533-3F8D-43EC-881B-482D19A6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D9B3B-C298-4E93-BDDF-20BC8375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F3E6C-0152-4DD4-AA53-E6452647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2A836-968B-4EEA-8D4D-54849F3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CDC0E-6441-4C67-B781-22149EB5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9804-AD68-41F2-BF09-D3A28B0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2ED2-B8A5-43ED-9F89-A65212E6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CE24-76B8-4A42-83D3-C7B2239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2346C-104F-4367-BDE5-9E14BC91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25D-0E87-4162-B0F3-88E27C1A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B3352-D4A7-425C-9F15-2BE2B478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2DB8-D03B-440B-B5A2-E1F4630D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AD07-3F4B-4A5B-A3BF-B1DA583D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0883-9AAD-4CD0-B280-8C3E676E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6E6C-C74A-4ADA-8C56-D3C88A03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F2FE-B724-4C05-8397-646089B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0227C-C0B6-4E15-9749-C236DCB2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9C9CB-4FA9-44AE-AA2E-3C8761E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0380-18EC-486F-8426-CF610201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FD440-C38A-4B97-AA1B-F104F77E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C51-D350-4183-B5C2-66DB865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7EA4-A379-4AE7-9B15-B65A881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10CC-4986-4DBE-800E-4443EFF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6417-870F-4D8B-972D-5278796D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A9E4-EB18-44F3-A864-416A372A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F4BA-2364-4054-8571-F77F99E2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AD9B-6C70-42F2-9F96-2C374873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131A-8740-42E0-B6EC-24D38B1F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4C9DA-DA92-4579-81C9-5C32F136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2B72D-B6A6-4F32-8AE3-E334A213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BE7E2-6BF2-4AE4-BA7F-516A69A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33A-C711-4053-9A55-CE23335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030B-9203-4E32-8F6C-898C5DAD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D19E7-C21C-4438-9F03-5745675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BA9A-D90E-4681-9F43-BCA8CD01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F05FB-E10F-4C97-BCA3-8E8F7E0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72C79-5C4F-4DBF-854E-FC1A8BB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645EA-1556-48CD-9C9D-5A791FAE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84F60-CAA5-415F-A127-7EF21F4F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DCE7E-8DCD-4A2A-9F07-BD39CC11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BD8D-C1B3-4263-B726-93050955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A161A-DF56-4355-B2C7-AB0DA44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15BC-9630-4F53-8E55-B0607BFF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521E-0C5C-40F1-9184-ADBD45774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6810-982A-4BD3-BDA4-A2FDB0506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C9E7-9138-4729-8AFE-2839BE8BA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73A-F18B-49B6-8EE4-9A8A913E3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6761-595F-4DDB-BCEA-C437C1A9B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9DA-C8D2-4784-97DB-594A73F43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F50A-B7E9-4ED2-8C1C-86A39E4E6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3DF-B920-4F5D-9F59-D881791AD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BE51-D398-4D37-B5CA-5D00F472C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B8D2-C44F-4AEF-8892-4CE05D0EB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983F-4C43-4012-94A4-F8A7AB7C0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896E-EDDE-49E9-99CD-AA2735F2C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A61B-F800-4D1B-A443-A00738981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481A-991B-47AE-9FFB-551CB746B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E7A-8CC8-4A73-8F2E-F4BBD833BD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2D9-03D0-4DBA-B053-6D15DDD11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F91C-DFFC-40E0-801D-7AC12D62F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ACC-2FD6-4AC8-93D0-3ECE2F93E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F76B-789C-4CCB-88AA-B2AD69D59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3777-1C74-4830-8BA7-7302B6E1D7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9A2-87EA-417A-BAB0-1AB78C2EC0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558-7559-4AA4-800E-88305D64C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75D-2696-4964-94D1-2362CDFA7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530-5557-4AD7-8A4D-F72C998E3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38D5-75DD-42DF-93DD-0D154B14A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F6A-8749-4A4E-BF3D-30F4A4F45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901E-22E9-47AF-8667-D501D5DF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E828-A48F-4179-B122-A73B75B200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823-AA97-45C7-8D7B-754A08543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9BF-8779-45B8-BDD2-EB02AAE4DF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FB9-4F5A-478B-924C-4E67F28C8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0576-BEDB-43C0-AC26-072BA0BA6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55D-AC60-4146-8B96-7B780EF2A8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980-A21A-42AB-AA22-F5E408916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F66-1A64-4F8D-81EC-89F39E5D04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73BF-80FB-45DA-B2B8-2AA3C6AF6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BFF5-8BBC-4634-A079-91B05F833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FFE-16EF-46B4-B095-CC39B97C8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31E-9BE2-4460-BFF0-8ACF71F60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080" y="2536920"/>
            <a:ext cx="91058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4098" descr=""/>
          <p:cNvPicPr/>
          <p:nvPr/>
        </p:nvPicPr>
        <p:blipFill>
          <a:blip r:embed="rId1"/>
          <a:stretch/>
        </p:blipFill>
        <p:spPr>
          <a:xfrm>
            <a:off x="185760" y="1828800"/>
            <a:ext cx="8772480" cy="3200400"/>
          </a:xfrm>
          <a:prstGeom prst="rect">
            <a:avLst/>
          </a:prstGeom>
          <a:ln w="0">
            <a:noFill/>
          </a:ln>
        </p:spPr>
      </p:pic>
      <p:sp>
        <p:nvSpPr>
          <p:cNvPr id="1028" name="直接连接符 4099"/>
          <p:cNvSpPr/>
          <p:nvPr/>
        </p:nvSpPr>
        <p:spPr>
          <a:xfrm>
            <a:off x="3075120" y="2637000"/>
            <a:ext cx="2865240" cy="1079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4100"/>
          <p:cNvSpPr/>
          <p:nvPr/>
        </p:nvSpPr>
        <p:spPr>
          <a:xfrm>
            <a:off x="2700360" y="3156120"/>
            <a:ext cx="3240000" cy="10648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4101"/>
          <p:cNvSpPr/>
          <p:nvPr/>
        </p:nvSpPr>
        <p:spPr>
          <a:xfrm flipV="1">
            <a:off x="3059280" y="2708280"/>
            <a:ext cx="288108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2"/>
          <p:cNvSpPr/>
          <p:nvPr/>
        </p:nvSpPr>
        <p:spPr>
          <a:xfrm>
            <a:off x="3059280" y="4221000"/>
            <a:ext cx="2881080" cy="57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3"/>
          <p:cNvSpPr/>
          <p:nvPr/>
        </p:nvSpPr>
        <p:spPr>
          <a:xfrm flipV="1">
            <a:off x="3059280" y="3212640"/>
            <a:ext cx="2881080" cy="1584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19240" y="1023840"/>
            <a:ext cx="8705520" cy="4810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258920" y="1643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187280" y="3689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9080" y="1467000"/>
            <a:ext cx="9105840" cy="39240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28800" y="42069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49320" y="1165320"/>
            <a:ext cx="9045360" cy="4527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2195640" y="4941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3635280" y="4941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4932360" y="4941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6154560" y="4941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09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